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DS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2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3840" y="385920"/>
            <a:ext cx="6353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20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22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520" y="86868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24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26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28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3840" y="385920"/>
            <a:ext cx="6353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             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0160" y="22845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6480" y="4195800"/>
            <a:ext cx="60796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520" y="86868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30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20" y="86868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32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35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3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3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4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20" y="853452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6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8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2800" y="2894040"/>
            <a:ext cx="6148080" cy="32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DUE 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DATE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7000" y="5587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70632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1240" y="101124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5440" y="13921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25440" y="177336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20" y="861048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10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20" y="861048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12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20" y="859788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 14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H&amp;M GLASS COMPANY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16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211 AB                                                                             18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7T16:38:36Z</dcterms:created>
  <dc:creator>Soldier Support Institute</dc:creator>
  <dc:description/>
  <dc:language>en-US</dc:language>
  <cp:lastModifiedBy>Administrator</cp:lastModifiedBy>
  <cp:lastPrinted>2000-06-20T19:34:34Z</cp:lastPrinted>
  <dcterms:modified xsi:type="dcterms:W3CDTF">2004-12-15T20:13:41Z</dcterms:modified>
  <cp:revision>43</cp:revision>
  <dc:subject/>
  <dc:title>No Slide Title</dc:title>
</cp:coreProperties>
</file>